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4A19-5B01-4EDD-999C-72B3739D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F8A-1DE1-4B96-BD94-E25E1A8E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694-6E8E-4500-9F5F-9B5B26C5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0FA0-B4E0-49AE-90E3-FC7CBADE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059-CDCD-4FFD-8663-88CEC037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88B8-7DD9-4A2A-A79E-376E4B7E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774-5B11-4351-9A5E-72584531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8D9-23B8-4174-8FF8-C0BF5EAD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9275-8629-4D79-8CD7-33ED146F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84A-223F-4AD4-9093-098CA56B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4BA-A213-4D1B-94EC-EA2E29BA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D28-484D-41CC-BCCF-AF20078F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4D8A-98FD-447E-A5E4-59FBD2349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2e2e"/>
            </a:gs>
            <a:gs pos="50000">
              <a:srgbClr val="ff99ff"/>
            </a:gs>
            <a:gs pos="100000">
              <a:srgbClr val="fe2e2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oudy Stout"/>
              </a:rPr>
              <a:t>La Ca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orte"/>
              </a:rPr>
              <a:t>Por Caitlin Redd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Mi gar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4534200" cy="2765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20632200">
            <a:off x="761760" y="251424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 gara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49528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muy grande, y be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818000">
            <a:off x="1142640" y="5257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lujos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Mi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9998000">
            <a:off x="727200" y="311292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moderna y luj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147800">
            <a:off x="664920" y="1442880"/>
            <a:ext cx="192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a c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5410080"/>
            <a:ext cx="146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La casa es b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0176800">
            <a:off x="5281560" y="5403600"/>
            <a:ext cx="275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impresion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p:transition advTm="7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Mi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20155800">
            <a:off x="5562720" y="48006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estupend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257600">
            <a:off x="3885840" y="289548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a magnifico, y impresion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810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a coc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f8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Mi Cua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581640" cy="2687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20884200">
            <a:off x="4591080" y="5486400"/>
            <a:ext cx="35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 bonito cuar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7432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mod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802800">
            <a:off x="6857640" y="182880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luj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050000">
            <a:off x="1206000" y="5471640"/>
            <a:ext cx="152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 cuar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ff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Mi P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5334120" cy="3511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21438600">
            <a:off x="685440" y="18288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 Pat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674400">
            <a:off x="5717520" y="5562360"/>
            <a:ext cx="22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incre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  <a:ea typeface="Arial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594200">
            <a:off x="913680" y="49525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muy gra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eb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Mi S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3962160" cy="2469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3409920" cy="2125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rot="567600">
            <a:off x="1049400" y="4038480"/>
            <a:ext cx="25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Hay dos sa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20574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a lujosa s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541008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a sa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Mi Ba</a:t>
            </a:r>
            <a:r>
              <a:rPr b="0" lang="en-US" sz="4400" spc="-1" strike="noStrike">
                <a:solidFill>
                  <a:srgbClr val="000000"/>
                </a:solidFill>
                <a:latin typeface="Goudy Stout"/>
                <a:ea typeface="Arial"/>
              </a:rPr>
              <a:t>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657600" cy="2717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24280" y="19810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 ba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  <a:ea typeface="Arial"/>
              </a:rPr>
              <a:t>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0148600">
            <a:off x="4267080" y="365724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muy be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303800">
            <a:off x="609120" y="4495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fabul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943600" y="4267080"/>
            <a:ext cx="2666880" cy="2208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52480" y="56386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Hay dos ba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  <a:ea typeface="Arial"/>
              </a:rPr>
              <a:t>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Mi 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505320" y="3124080"/>
            <a:ext cx="3848040" cy="2662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0355600">
            <a:off x="762120" y="26668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 come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510552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fabul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40400">
            <a:off x="6248160" y="190512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incre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  <a:ea typeface="Arial"/>
              </a:rPr>
              <a:t>í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167652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gra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Mi jar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4190760" cy="2792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20461200">
            <a:off x="685800" y="182844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muy be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5791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 jard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485600">
            <a:off x="532800" y="487656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muy gra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22:55Z</dcterms:created>
  <dc:creator>reddingtoncai</dc:creator>
  <dc:description/>
  <dc:language>en-US</dc:language>
  <cp:lastModifiedBy>reddingtoncai</cp:lastModifiedBy>
  <dcterms:modified xsi:type="dcterms:W3CDTF">2013-04-04T15:55:32Z</dcterms:modified>
  <cp:revision>5</cp:revision>
  <dc:subject/>
  <dc:title>La Casa</dc:title>
</cp:coreProperties>
</file>